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2119-7B53-4DAC-BCD8-CC36B819D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0FA-4AE7-4C9B-9248-D070B4A4B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A5E9-BF84-4164-9EF9-809478391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8AD-CE7C-45AD-ACCE-E5AA55389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249-C0EF-4AA6-A14A-BEA4216EA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D63C-7826-44BB-88D8-0FADF97E0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B8A4-E6B0-4E15-801E-823811CCE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6C3-2405-42D0-A6DC-822AB736F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E66B-52AC-4A3A-880A-66102576C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15F3-6651-4780-85E3-3C5495B52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F71-CBA7-4B15-AFB0-1DB87F3FE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0F35-15F6-40D6-9CA0-AE47CAF57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5BE3-13B9-44B7-9448-946CEEE39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CC3-DA2D-4C87-91E4-298F7E3CD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5A76-F125-40DA-88C0-19D48F703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C90-7CA9-4C50-8AAA-23B895A4C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F87-40E6-4345-A6ED-6A136C4A1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C42E-64C4-4A3D-88D8-614F01C46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6A5-CAF7-443C-848E-0CA113FFE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7003-BDAE-4C42-9A81-87A798F37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375-C5F4-4A4C-84AC-5DCDB101D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8682-4656-4EB5-95E5-1A2644870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9405-A77A-4B5D-80D9-27175E4ED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694D-095F-4882-8591-32648E26B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87CE-DC8F-4289-9F9E-BFFB00629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55B-09C1-47B4-B365-029836014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6AAC-FFAD-4000-B20B-57569C593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DA31-2E78-42F3-B6A7-B269F77ED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F8F7-C840-4010-8F47-E1BFBC5B7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DC76-2288-45D0-AC0A-59CF85C73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2D3-81AC-4F54-97E7-A6672244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6F2-A483-44D7-AADD-69BE20B2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2CC-7DDD-4C7F-895B-EDB8DAD8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509-B460-4E9F-9BC7-B0664F7F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CA1-6BC7-4544-B054-96EE2EE4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2EA-CFD5-4E56-B4A2-649CBCFE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36C-C6F6-4C38-B926-CE0A7689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0D0-0875-48A9-9FE1-29233ED3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F2E-630F-4471-941D-BADDE47C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845-48DE-49A1-93B7-DFE1FFB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07D-A9CF-49F0-AD0A-FC76FDA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704-F26D-49C1-8554-50CE323C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D2A1-A346-4C0D-AED3-9FB06B621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. Сходство и различие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371600" y="209520"/>
            <a:ext cx="6469200" cy="1036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fgossoo1.png"/>
          <p:cNvPicPr/>
          <p:nvPr/>
        </p:nvPicPr>
        <p:blipFill>
          <a:blip r:embed="rId2"/>
          <a:stretch/>
        </p:blipFill>
        <p:spPr>
          <a:xfrm>
            <a:off x="2898720" y="2971800"/>
            <a:ext cx="3414600" cy="142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392120" y="4114800"/>
            <a:ext cx="7108920" cy="18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Проек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s://sun9-47.userapi.com/c855720/v855720340/99a24/ngmZVz7TvG0.jpg"/>
          <p:cNvPicPr/>
          <p:nvPr/>
        </p:nvPicPr>
        <p:blipFill>
          <a:blip r:embed="rId1"/>
          <a:stretch/>
        </p:blipFill>
        <p:spPr>
          <a:xfrm>
            <a:off x="2743200" y="2057400"/>
            <a:ext cx="3575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u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шенный вперёд) – тесно связанная с наукой и инженерией деятельность по разработке и созданию проекта (прототипа, прообраза предполагаемого или возможного объекта или состоя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практико-ориентированная деятельность, целью которой является разработка новых, не существующих в практике «объек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ное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рганизация самостоятельной творческой деятельности учеников в рамках работы над определённой выбранной темой (проектом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моловская Т.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педагогическая цель любого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различных ключевых компетенци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 которыми в современной педагогике понимаются комплексные свойства личности, включающие взаимосвязанные знания, умения, ценности, а также готовность мобилизовать их в необходим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проек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роектный этап (иначе называют предварительным или стартовы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в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проект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ые проек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й проект – это «организационная форма работы, ориентированная на изучение законченной учебной темы или учебного раздела и составляющая часть стандартного учебного курса или нескольких курсов»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Обучение для будущего при поддержк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4-е изд. – М., 2004. С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чебном проектировании сфера приложения преобразовательной активност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кстно задана предметной областью (отдельным предметом) или учебной проблемой, носящей межпредметный характер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метры формата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школьный, внешко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штабу су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дивидуальный, групповой, коллективный, корпо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раткосрочный, среднесрочный, долгоср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рритории распростра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нутришкольный, региональный, сетевой, международны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едметный, межпредметный, междисциплинарный, интег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рактеру приорите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сследовательский, экспериментальный, поисковый, коммуникацио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характеру участия Ребёнка в проект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азчик, эксперт, исполнитель, участник от зарождения идеи до получен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8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98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98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учащихся в проек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и утверждение темати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графика работы над про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и анализ литератур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контроль процесса выполнения проекта (консульт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оформлением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 проведение предзащиты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доработко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ение итог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учащихся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 о про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индивидуального график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хода выполнения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защита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аботк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уговые проект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ое проектирование, связанное со сферой дос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каникулярный проект. Это может быть программа деятельности летнего школьного лагеря или концепция воспитательной работы школы во время каникул, сценарий какого-либо праздника, план работы на смену, положение о детском фестивале и др.  Каникулярные проекты имеют смысл, если носят событийный характер, органично вписываясь в жизнедеятельность детей и взрослых, вместе проводящих кани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Исследовани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s://navigator.zabedu.ru/images/events/cover/9814921059931eecfc3023411b54eb7a_big.jpg"/>
          <p:cNvPicPr/>
          <p:nvPr/>
        </p:nvPicPr>
        <p:blipFill>
          <a:blip r:embed="rId1"/>
          <a:stretch/>
        </p:blipFill>
        <p:spPr>
          <a:xfrm>
            <a:off x="1828800" y="2514600"/>
            <a:ext cx="565776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проектн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ть и осознавать изучаемую пробл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ированно формулировать и отстаивать свои проектные замыс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батывать реальные гипотезы, проверять их в соответствии с четким план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пределению и позициир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ости и четкости в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ю планировать свои изыск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ся к намеченной цели (важному для жизни стремлен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: сходство и разли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основные «параметры» сравнения исследовательской и проектной деятельности и продумайте мотивацию выдвижения именно таких пара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и проектирование – изначально принципиально разные по направленности, смыслу и содержан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– бескорыстный поиск истины, а проектирование – решение определённой, ясно осознаваем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наружи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то уже е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зда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его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умал – спроектировал – осуществи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.е. получил продук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исследования (естественнонаучного тип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явление – описание – модел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ъясн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98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98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98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98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становя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вер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бор данных) или проверки правильности (истинности) той или иной определяемой модели.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явля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нформационные, организационные и иные производствен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тличие рассматриваемых методов заключается в рефлексивной составляющей. Речь идёт об осознании того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кую культурную роль я исполня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того или иного процесса: исследователя или проектиров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личия исследования 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 вневрем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нания важен критерий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направлено на идеальный объ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т бесконечное движение вглу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в чистом виде. В исследовании значительно больше места для импров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ён временными рам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екта – критерий реализу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е направлено на организационну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начально задает предел, глубину решения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не в полной мере, творчество по плану, в определенных контролируемых рам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предпо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учащихся в процесс переоткрытия знаний, что позволяет воспроизводить разные формы научного труда и теорет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с детьми границ их знания и незнания, благодаря чему их можно учить такому типу исследовательской деятельности, который выводит на передний план порождение человеческ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исследования (обследование, наблюдение, эксперимент, анализ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соответствующих образовательны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детей в процесс создания новых организационно-деятельностных форм при работе в образовательных про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запаса знаний, опыта и впечатлений, благодаря чему происходит обогащение (расширение и детализация) знаний и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проектирования (проблематизация, самоопределение, позицирование,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-организацию всех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и проект осуществляются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реде неопределё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менно это и активизирует познавательную деятельность су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через исследование и проект личностно ориентировано. Ученик становится субъектом, а не объектом образов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формирует такие основные качества лич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оставить творческую (достойную) цель и подчинить свою деятельность её достиж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ланировать и самоконтролировать свою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находить и решать проблемы, составляющие основу ц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защищать свои уб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делать проекты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том осуществлять их в жизн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нимать: хорошая идея сама по себе ещё не решает исход дела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обходимо представлять себе, каков механизм её ре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к будет выглядеть конечный проду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проводить исследо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ддерживать врожденное любопытство Ребё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набжать его инструментарием, показывающим, что мы можем успешно познавать ми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у же цель можно определить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вращение поведенческой модели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ультурную рол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исследовате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98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роцесс поиска неизвестного, новых знаний, один из видов познавательной 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деятельность, связанная с поиском ответа на творческую, исследовательскую задачу с заранее неизвестным решением и предполагающая наличие основных этапов, характерных для исследования в научной 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науч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6012000" y="2276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971640" y="357336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971640" y="429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абочая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268360" y="4941720"/>
            <a:ext cx="2303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оли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0" y="494172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а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971640" y="5589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971640" y="6237360"/>
            <a:ext cx="2376360" cy="36180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971640" y="2133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объ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971640" y="285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5724360" y="5157720"/>
            <a:ext cx="298800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5724360" y="5805360"/>
            <a:ext cx="3059280" cy="86364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ЗА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(ЗАКОНОМЕР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3924360" y="3860640"/>
            <a:ext cx="1511280" cy="28764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отвер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4427640" y="4437000"/>
            <a:ext cx="1871640" cy="28908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корректир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6443640" y="4508640"/>
            <a:ext cx="1655640" cy="36036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прин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2050920" y="595008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2050920" y="393372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2050920" y="321300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2050920" y="249228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2700360" y="530064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1332000" y="53006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2700360" y="465300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1332000" y="465300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3048120" y="1752480"/>
            <a:ext cx="5473440" cy="865440"/>
          </a:xfrm>
          <a:custGeom>
            <a:avLst/>
            <a:gdLst>
              <a:gd name="textAreaLeft" fmla="*/ 801360 w 5473440"/>
              <a:gd name="textAreaRight" fmla="*/ 4672080 w 5473440"/>
              <a:gd name="textAreaTop" fmla="*/ 126720 h 865440"/>
              <a:gd name="textAreaBottom" fmla="*/ 738720 h 865440"/>
            </a:gdLst>
            <a:ahLst/>
            <a:rect l="textAreaLeft" t="textAreaTop" r="textAreaRight" b="textAreaBottom"/>
            <a:pathLst>
              <a:path w="21600" h="21600">
                <a:moveTo>
                  <a:pt x="19702" y="11572"/>
                </a:moveTo>
                <a:cubicBezTo>
                  <a:pt x="19724" y="11315"/>
                  <a:pt x="19736" y="11058"/>
                  <a:pt x="19736" y="10800"/>
                </a:cubicBezTo>
                <a:cubicBezTo>
                  <a:pt x="19736" y="5864"/>
                  <a:pt x="15735" y="1864"/>
                  <a:pt x="10800" y="1864"/>
                </a:cubicBezTo>
                <a:cubicBezTo>
                  <a:pt x="5864" y="1864"/>
                  <a:pt x="1864" y="5864"/>
                  <a:pt x="1864" y="10800"/>
                </a:cubicBezTo>
                <a:cubicBezTo>
                  <a:pt x="1863" y="10805"/>
                  <a:pt x="1864" y="10810"/>
                  <a:pt x="1864" y="10815"/>
                </a:cubicBezTo>
                <a:lnTo>
                  <a:pt x="0" y="10819"/>
                </a:lnTo>
                <a:cubicBezTo>
                  <a:pt x="0" y="10812"/>
                  <a:pt x="0" y="1080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11"/>
                  <a:pt x="21586" y="11423"/>
                  <a:pt x="21559" y="11734"/>
                </a:cubicBezTo>
                <a:lnTo>
                  <a:pt x="24249" y="11967"/>
                </a:lnTo>
                <a:lnTo>
                  <a:pt x="20317" y="15272"/>
                </a:lnTo>
                <a:lnTo>
                  <a:pt x="17012" y="11339"/>
                </a:lnTo>
                <a:lnTo>
                  <a:pt x="19702" y="11572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6"/>
          <p:cNvSpPr/>
          <p:nvPr/>
        </p:nvSpPr>
        <p:spPr>
          <a:xfrm>
            <a:off x="7164360" y="4797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7164360" y="5516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7236000" y="2637000"/>
            <a:ext cx="0" cy="1871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9"/>
          <p:cNvSpPr/>
          <p:nvPr/>
        </p:nvSpPr>
        <p:spPr>
          <a:xfrm flipH="1">
            <a:off x="5364000" y="2637000"/>
            <a:ext cx="1872000" cy="1800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 flipH="1">
            <a:off x="4643280" y="2637000"/>
            <a:ext cx="2592720" cy="1223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 flipH="1">
            <a:off x="3347640" y="4005360"/>
            <a:ext cx="576360" cy="36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 flipH="1" flipV="1">
            <a:off x="3347640" y="4508640"/>
            <a:ext cx="1079640" cy="727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1143000" y="220968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ебно-исследовательск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оцесс решения учащимися научных и личностных проблем, имеющий своей целью построение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убъективно нового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ы 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феры исследования: определение направления будущего исследования; формулировка вопросов, на которые необходимо получить от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границ исследования: выбор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цели, задач и гипотезы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сследования: выявление и систематизация методов исследования; составление плана - определение последовательности проведения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обработка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материалов. 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от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чная презентация результатов. Рефлекс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ворческие работы, выполненные с помощью корректной с научной точки зрения методики, имеющие полученный с помощью этой методики собственный экспериментальный материал, на основании которого делается анализ и выводы о характере исследуемого явления. Особенностью таких работ является непредопределенность результата, который могут дать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учебно-исследовательск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ть и выделя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ть и стави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ть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 объект (предмет, явление, событие, их свойств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ть существенные признаки и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ть различные фа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вигать гипотезы, пред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ть средства и материалы для самостоя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генерировать идеи, т. е. изобретать способ действия, привлекая знания из различных обл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мысливать задачу, для решения которой недостаточно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ть на вопрос: че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учиться для решения поставленной зада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находить недостающую информацию в информационном п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ашивать недостающую информацию у эксперта (учителя, консультанта, специалис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 несколько вариантов решения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ть 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экспери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ировать этапы действий и результат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Штехман</dc:creator>
  <dc:description/>
  <dc:language>en-US</dc:language>
  <cp:lastModifiedBy>Марина</cp:lastModifiedBy>
  <dcterms:modified xsi:type="dcterms:W3CDTF">2021-08-06T01:54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